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A0C6-17F7-47CA-84A1-A382C73E4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29AE-D638-431D-AEFE-30D1D5FE1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kis:  everyone can add, edit, change, or delete (unless page is locked by the wiki organ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gs are like journals:  others cannot ed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C90D-2F62-4F32-83D5-FC383A304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ology policy should include a code of ethics and a set of proced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rank conversations with students (create a cyber awareness survey to initiate convers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and teacher code of ethics (create or modify and existing o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about how information may be released in the blog or wiki (names, pictures, etc.) – refer to school policy &amp; privacy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BBB0-B925-42AA-8E63-7A922EDF4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AB11-0E80-445D-9A2F-14CC9B15A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n’t need to be a technology expert, but you do need to have some understanding of the tools and the educational potential of those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 to understand what effective tech support looks like and how to fund for appropriate staffing and trai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to understand what constitutes effective tech usage so that they can evaluate it and facilitate it school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training in legal, ethical, and policy issues related to student and employee use of the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62DC-666B-446F-A250-6589DDDF5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craft “in plain english”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2895-8AF3-425D-B2CD-7F5E1AA5A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directed or teacher directed:  A wiki can be something that teachers create or that students create:  teachers may create a wiki as supplemental information for the class.  Students may create a wiki collectively for a particular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kis are useful for creating documents collaboratively (agendas, staff meetings, policy docu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ers can write, add, edit, and change the web page (wiki) at any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9F1E-3682-414A-A94B-C9A115D6B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illrichardson.wikispaces.com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C4C8-E024-41D2-85C5-EB33DB754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craft “in plain english” vide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2697-9930-4A5A-9AF5-BC259E900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ve:  different than listservs and static web p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:   students acquire language skills best through meaningful engagement with the language (as opposed to a list of grammatical rules to master).  Create opportunities for social engagement and cooperative learning.  AUTHENITIC LANGUAGE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blog for science or math to discuss concep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education blog (http://specialed.about.c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blogmeister.com and www.gaggle.net are developed for schools and mandate teacher supervision.  Edublogs.org is also an educational blogging site commonly used for secondary and adult purpo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60BE-CC77-421B-B287-7D8606821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created blogs for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created blogs for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created blogs for other teachers/ad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created blogs for class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D7F3-DA12-4DCC-99BD-E724438A6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g is a great way to bypass local media and “get” your own version of the story out there and to get “feedback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ilitate feelings of community within your school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s are increasingly checking out school websites as part of their relocation decision making (marke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customers (parents &amp; community members)  who are passionate about their school and talk about how great it is to everyone they m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oughts out there for the community to chew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ocate change or ask readers to become informed on issues (state and local legislative a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46AD-8C75-4CD6-8454-51A437AEB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DA3-3F6A-4879-8551-845C1DDD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13D-5478-4D2C-9F7A-6AB47C52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D59F5-702D-48BE-B08E-ACCE3995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4F5F0-E560-4BEA-9958-72B47063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D86FD-F4B4-4DF3-8EDE-50A26646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A5078-81D0-4242-AFF7-6B5C8BE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AF372-7C00-4C37-9895-0FA02EFC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95B05-F39D-4AD6-925F-D508621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01BD9-7E98-4BF1-8FAE-9D3CD808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985C2-3CBA-444B-A0B6-433D241F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32217-9756-4DDB-98C4-6992E471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8B408-C625-4093-9583-76FD7EC7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278-301D-42A1-A3D7-70B150F7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0F8F6-16BD-46E0-A246-AA8B6B62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A03F6-86C0-4699-9BA9-A5A6C5E4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2BA83-F43C-4245-A499-7792D7EA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67F75-0CEB-4667-9907-E083392D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48BB0-7A28-4954-8AC9-A2B86A69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51C3B-25B4-40FE-AEDE-7396559D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9A6D1-7FC6-46A1-852E-36992565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BFCC0-A35C-42F9-B9EC-1FB0CA0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C0B0D-6186-40C9-BB09-2187AEAE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21811-93D4-4FEA-AFB6-CD64539D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057-A593-4891-AB6C-012051B6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21622-51D6-4AAC-88A4-FA230BB0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6DBB6-CDA3-4509-9E73-1519551C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BD3C0-B090-43DC-90C0-7CEE207F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F3CB4-A4FB-43A9-9E1F-03B2DF6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055E4-14B3-476C-8DEF-76E714AC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64549-62CD-48CD-841A-542CBA2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450AC-8B46-4598-819D-E5480BA4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47313-906C-48A5-A2C7-8B49984D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623CF-0BCA-4CA4-B708-6AB6A829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4345D-761F-4E99-9444-3A747FA5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1312-676D-48F5-9265-C509294F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FE951-E949-4F64-B7D1-BCE13E6E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C092E-7FBC-406F-9E86-C3E609E1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64A1E-0DAC-49E9-8FB7-88615671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557BD-A943-4C5E-82F8-437B845D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542BA-4C53-4DC5-8C9B-4D633791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745D4-CC91-49D3-BBB2-1483353C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7A85C-5FD4-4863-8B69-1674AB72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75D58-33B4-4577-B7D1-1458BD2F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7055C-4241-4D3A-A75F-B99252E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1E6C3-D0B5-4954-80A4-992EAE2F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9C9E-E639-4B03-8494-7213146E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CB8AC-060E-4097-B47E-4CA268E7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1AAA4-6569-43CF-99B1-33B22205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714AA-7D0D-4D2B-8318-489AC6DC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158C2-2245-4FA8-AE82-9340F913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344DF-0886-46DE-8448-7C972BFD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8CC8-1C4C-45B5-95C7-7B7E5669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7923-017A-4DC0-B4F5-ABD858E7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F000-D4FE-4CB4-A804-71C4590C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880B-577B-4DBB-8A1D-3194D6FC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7C3E-CA8F-42C7-A5DE-19FB9E81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320-1D73-422E-98FC-F2F9123F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9872-EAF5-41CC-BA4B-237CB27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706F-CB31-4E4E-A4F2-B2D20AD5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31CA-E1BB-43C8-B010-6DA8C511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86CE-8C78-4CB7-90E3-46EF3DD7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C533-F851-47FB-ADEA-860F1D82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2B95-D39A-4119-96C0-3D1925DF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E93D-68DA-4343-BBE8-6DC45240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E7F6-4342-477C-81F8-104038B9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36273-4118-4985-BD4C-846AA2BF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4A51-45BB-4A23-A6DD-78026275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248-2036-4BBA-A26B-26A51027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ECDE-49BE-4A2F-8298-28BC92CE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FA3B-1B89-4C5D-B116-19A0CFB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BFF7-9025-4D5E-A58B-0EDDD211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FAAC-06D8-4301-A169-FF11D26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A2A9-2268-4FBE-B6C6-376C3BA5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B89B-AA13-435A-B3F3-2407FFC6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6EB6-F0DE-4D7A-B2F5-7B96D063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E1CA5-DE42-4B0D-8FF2-504C1BEF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26B8-EAE7-4B96-9EBB-9F196D91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E7FC-07DD-42B4-8060-67BCAFE4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85F-F2AD-4FD2-98FB-DE6871B3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FE63-67D7-4B49-84B6-ECF32C6B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95F0-BEB0-426B-85F1-DB4B1944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3961-A4EF-4F37-A18E-90FCDD76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2D354-08D9-4C4C-9671-CF579224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C2DA-E40F-4E7D-AA64-74FBC35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31B0-8DCF-4D1E-ABA0-816EE53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64577-0B5B-4C4E-BC7E-9CCB5659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1144B-5A6F-4A99-B340-3058C52B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E50E5-CD64-4E92-A225-A10B680A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03B5B-68FD-4768-B9D2-A938B0E9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E6D-0135-4C3E-AF4B-7E877ABE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D019F-1711-449E-B7C4-96416A45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5847-09A0-47CC-A329-27465A39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C02B0-3FF0-4D88-AF11-0E87FF98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D4CCA-A707-4DC7-8FB9-2640346E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EA865-EF3E-4D16-A043-DABEE332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C0AB5-1FE4-4722-B039-1D5A027E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F2F60-6FD2-443B-A5AC-269399F6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5ECD9-E152-4A8B-B4A1-F67EABB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9DEF4-620D-4A07-824F-9B8D3F05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1848-79F4-4DB1-8ABC-EC857F3C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B0E-C00A-40F2-925D-29DD3BC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80170-00D2-4444-845D-3DA6236C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741F2-36CB-4E36-A63E-7DB058F5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60D8C-1DDF-4ACF-879F-ACF901F1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885F-CBB5-4B46-97F9-E56DA063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54E7F-A0E7-46B0-A265-19E6B156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F603-0790-42AF-AF67-F18993BD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1DDC5-B02F-46F5-A59C-DCC7F7C6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256E-B03F-4C6C-AA31-D8B3711F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9419F-421C-4382-BE88-7A410533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89728-0254-49BD-937E-EE10D024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5C7-80BC-4EA0-B92A-95294F25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920D4-5805-4B70-B0B2-68C2D815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FD268-4928-42C8-B062-2AAEC27D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18D5-453A-456E-A74C-68C03626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21A0C-56F6-49F3-92DA-21937DC7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B0D35-0E22-45DF-8F78-F65EC6D3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42B03-BE04-4F00-B1EA-1B54FC62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B1F54-08D5-45B0-810D-7E934FB4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1781F-B016-45FC-93A5-17F91F42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1594C-349D-4273-85F0-2E9FA394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BBD10-B28C-4735-956D-AB5E1838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A5B-1376-4F81-BD0D-C19AF2CA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39BAB-C77C-4751-846A-66E4A3E0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D711D-4A64-4127-8652-E9D8775D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935DE-3637-405A-94DB-29B5A5A0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6234-3FFA-45F4-8EF1-C132189A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96B0F-F7B9-42D1-9D07-B2317CC2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86C53-1D36-452F-B2FC-6D1F0F4B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428B3-8F16-474C-83C8-656242D3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40CF2-D7C2-4DA9-BC32-B3EF33FE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2689C-4249-4BA5-88A6-2F2ECEDA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1A8EB-57F9-415C-8F7A-2FD8988C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1A6-6CE2-43B0-9833-D8DF30A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265F5-1491-4B75-89E5-37488C39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39CD1-C274-4D43-84BC-948F1DF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7B004-54D4-4EDE-A5F2-BCA7DB8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5FF2A-CC43-4241-9595-5ADD395F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8E48E-0198-4CC5-83F3-7F029B76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B693B-7B93-40E4-89D6-107C52F2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80A28-896E-4AF6-A1FC-D0431938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DD7CF-AA88-4B01-B13B-71212E0E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169D1-856E-4DA0-B228-39E554C6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0B168-C590-42C3-9DE7-EDE3673A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F7F9-D1B2-4A69-B0EC-1566ED86E2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82D4-6DA2-4965-ADD8-8D43F315C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5525-7E41-4BFE-A35E-DB69AF65F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7D93-35C1-451A-ADD0-A3F25C349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51EF-C7F5-42F9-B9FF-61CBE75A0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0141-6751-4FE7-9D98-71EF30222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DAA8-E9C2-4C17-8293-304962624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B859-7832-410C-B3CB-0E1E8DB58C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8165-A46F-44E0-A415-1E78707C97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221C-EE43-4887-BB56-07DC01EF10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704F-4F31-4B34-8112-7427F8E59E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BEF9-5F50-4D62-9623-C9434AF78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7BAU2XX5Ws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LEMENTARY APPLIC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logs &amp; Wiki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70102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349"/>
                </a:solidFill>
                <a:latin typeface="Georgia"/>
              </a:rPr>
              <a:t>ESA Region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esa logo attempt.jpg"/>
          <p:cNvPicPr/>
          <p:nvPr/>
        </p:nvPicPr>
        <p:blipFill>
          <a:blip r:embed="rId1"/>
          <a:stretch/>
        </p:blipFill>
        <p:spPr>
          <a:xfrm>
            <a:off x="7467480" y="5105520"/>
            <a:ext cx="93348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WRITING PROCESS:  BLO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EFLECTIV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ANNOT BE EDITED BY OTHE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OLLABORATIVE WRITING: WIK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EER REVIEW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EAMS OR GROUP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NGES ARE TRACK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To Blog or To Wiki?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REATE AND ADHERE TO SCHOOL TECHNOLOGY POLIC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EVIEW THE ENTIRE POLICY WITH STAFF, STUDENTS AND PAR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EACH ETHICAL AND LEGAL BEHAVIOR FOR TECHNOLOGY US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Safety &amp; Privacy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       </a:t>
            </a: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Thank You!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www.edec.org/esa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8" name="Picture Placeholder 8" descr="esa logo attempt.jpg"/>
          <p:cNvPicPr/>
          <p:nvPr/>
        </p:nvPicPr>
        <p:blipFill>
          <a:blip r:embed="rId1"/>
          <a:srcRect l="0" t="3009" r="0" b="3009"/>
          <a:stretch/>
        </p:blipFill>
        <p:spPr>
          <a:xfrm>
            <a:off x="3000240" y="609480"/>
            <a:ext cx="5867640" cy="426744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5638680"/>
            <a:ext cx="2438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Melissa Goodwi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mgoodwin@edec.org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Text Placeholder 5" descr=""/>
          <p:cNvPicPr/>
          <p:nvPr/>
        </p:nvPicPr>
        <p:blipFill>
          <a:blip r:embed="rId1"/>
          <a:stretch/>
        </p:blipFill>
        <p:spPr>
          <a:xfrm>
            <a:off x="884160" y="2706840"/>
            <a:ext cx="7478640" cy="30906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Effective Technology Leadershi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6480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VIEW THE VIDEO ON YOUTUBE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YOUTUBE.COM/WATCH?V=F7BAU2XX5WS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What is a Wiki?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COLLABORATIVE AUTHORING TOOL (21</a:t>
            </a:r>
            <a:r>
              <a:rPr b="1" lang="en-US" sz="1500" spc="-1" strike="noStrike" baseline="30000">
                <a:solidFill>
                  <a:srgbClr val="646b86"/>
                </a:solidFill>
                <a:latin typeface="Georgia"/>
              </a:rPr>
              <a:t>ST</a:t>
            </a: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 CENTURY SKILLS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WEB BASED, CAN BE ACCESSED FROM ANYWHERE WITH AN INTERNET CONNECTION (WEB 2.0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MAY BE STUDENT DIRECTED OR TEACHER DIRECTED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PEER EDITING AND WRITING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EPORTFOLIO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Why Wikis?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COLLABORATIVE STORYTELLING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HTTP://TERRYTHETENNISBALL.WIKISPACES.COM/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KIDS TEACHING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BOOK STUDI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HTTP://WIKI.WOODWARD.EDU/HANNALEE/DOKU.PHP?ID=HANNALEE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SUPPLEMENTAL MATERIAL FOR CLAS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HTTP://STAT21.WIKISPACES.COM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Wiki applications for K-5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1371600" y="3200400"/>
            <a:ext cx="6480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VIEW THE VIDEO ON TEACHERTUB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TTP://WWW.TEACHERTUBE.COM/VIEW_VIDEO.PHP?VIEWKEY=367AB9EED5AF82966A48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What is a Blo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STUDENTS WRITE BETTER WHEN THEY HAVE A REAL AUDIENC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ROMOTE OPEN DIALOGUE WHERE STUDENTS SHARE KNOWLEDGE AND REFLECT ON A TOPIC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ENGAGING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INTERACTIV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MEET STUDENTS “WHERE THEY LIVE”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ELL STUDENTS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WRITING ACROSS CONTENT AREA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Why Blog?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LEMENTARY SCHOOL PUBLISH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UDENT JOURNAL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TTP://SDSTAT21.EDUBLOGS.ORG/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EACHERS COMMUNICATE WITH PAR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AILY CHRONICLES OF CLASSRO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OMMUNITY ACTIVIS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TTP://MONTROSE.COMMUNITYBLOGS.US/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Blog Applications for K-5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371600" y="3200040"/>
            <a:ext cx="6480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UBLIC REL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OMMUNITY BLOGG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RAND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REATE CUSTOMER EVANGELIS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OUGHT LEADERSHIP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Reasons for an administrator  to blog: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0:12:23Z</dcterms:created>
  <dc:creator>Melissa Goodwin</dc:creator>
  <dc:description/>
  <dc:language>en-US</dc:language>
  <cp:lastModifiedBy>Melissa Goodwin</cp:lastModifiedBy>
  <dcterms:modified xsi:type="dcterms:W3CDTF">2008-09-18T16:20:00Z</dcterms:modified>
  <cp:revision>25</cp:revision>
  <dc:subject/>
  <dc:title>Elementary Principals Meeting</dc:title>
</cp:coreProperties>
</file>